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D4E-97CA-4389-87BD-04A48446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B36B-779B-42C8-A9C4-938F315A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ADE-709F-44A8-9AC1-F0C2D078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390-F055-451A-AAF8-611C4D0D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8EC6-A147-40C7-B827-19CAC042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D461-9745-4102-9B0C-6725E3BC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8455-251F-4080-A92A-8EBB0C7B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BA4B-41C1-4B88-B5BF-E98BC2FA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3A2A-5E08-4136-8C88-806F4BB1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8E89-A5C1-4C68-8EB5-52ED946C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4A33-6A48-43D9-B027-85B516FA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97A-AFD3-4B7D-9079-68492B6F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9B9E-4A31-47E5-82A5-EED67EDC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321D-AED1-432E-8F00-D20A7800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609B-A113-4786-997A-AE078285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D93F-1F36-4145-8BA4-D2B133F4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8D6A-8620-44B6-B817-2A6E8418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AD66-BCF8-48BF-A4E5-D49C976B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CBE5-18A0-4C13-A49F-04C63F95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592D0-2B64-4C8A-9147-7305DD33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D529D-F9B4-4A2D-8C57-8B59BDE2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5A17D-AA58-47FE-9F80-824AF15E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C51-27F7-47E4-9D73-F0EF77E3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347C-D66A-4587-A57C-FE26CAFC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C576-C265-4FFE-BC6E-E9CD21B3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006D2-1A3E-4861-9883-39430B8E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0F22-4281-44DE-817D-D9D1C8ED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41EB-1E8E-45D7-8D5D-8745A395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80ACC-5DBA-420A-B0C3-DC64A9F5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D0BA2-93E6-41E2-9D74-3BDD3E20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BB81C-89F9-490A-A576-950FE7D4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FEC8-F47A-483F-ADA8-6DD0CCD6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3EB52-0C37-4A8A-9371-B5EFDB0D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53E7-10F8-466B-8194-A627D323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99395-D9D7-4621-9596-8CEAC725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E8A27-6816-46C9-89D8-4EBF6944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1F508-8C93-4924-A92A-3ABDEBCF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F1873-2092-4A9A-AC2D-8B875DD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A4975-3B34-4C0E-9C6E-FCE96CB7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12BB2-43A0-441A-894F-1D074687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489F9-570A-40CA-8A2D-EBFB95C5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3CE87-9A52-44EF-89B4-FDF9ECB5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3EBB7-216C-4289-B685-1AD2051A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005-754A-4E55-BDA1-380FBF55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7F1-CA5A-4B34-B2FC-30481D3E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E00-32A6-4AD9-8221-0BEDCCFD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66F-7F27-441F-9465-2F992F9E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D3C-285A-4F3E-80AD-0EB66E3D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21A3-1DF1-4FBA-959B-F3869BADB0A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DB2F-52DC-44FB-8DE9-5F59533F4DC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2522-4B31-4811-B996-BADC4E6B6D9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D79E-157D-4EC0-92A2-797979A376E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3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Review on Database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5000"/>
            <a:ext cx="822960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he default quantity in the Orders table to 0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he Design view of the required t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variable that you want to set its default val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default value in the bottom bo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3" descr="default.bmp"/>
          <p:cNvPicPr/>
          <p:nvPr/>
        </p:nvPicPr>
        <p:blipFill>
          <a:blip r:embed="rId1"/>
          <a:stretch/>
        </p:blipFill>
        <p:spPr>
          <a:xfrm>
            <a:off x="1752480" y="4191120"/>
            <a:ext cx="563400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following records to the products table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D: 10089 , PName: Bath Salts, PurchaseDate: 10/20/2008, Supplier: Bath and Beyond, PurchasePricePerPiece: $2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D: 10768 , PName: Shower Gel, PurchaseDate: 10/1/2008, Supplier: Lush, PurchasePricePerPiece: $4.50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D: 10769 , PName: Shampoo, PurchaseDate: 10/1/2007, Supplier: Lush, PurchasePricePerPiece: $8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50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following data to the orders tab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D0E3-5978-4CE7-B2EE-3299109EC2F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447920" y="2895480"/>
          <a:ext cx="6095880" cy="18288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3682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de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duct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lesMan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uant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der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lingPricePerPie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ohn Sm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/1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7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ra B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/1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7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dra sm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/1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7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ohn Sm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/1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query named query_1 that displays all the information from both tabl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create tab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ry Wiz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simple Query wiz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both t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which fields you want to be displayed using 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want to not show a certain field after choosing it, use &l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me the query as requi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82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query named query_2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query_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at displays all fields in both tables, but  limit the query to the Supplier "Lush"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the query using simple query wizard to select all fields from query-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he query in the design vie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uppler field, set the criteria to “Lush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check SQL by right-click and choose Show SQ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82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n aggregate query named query_3. Group the query using SalesPersonName and calculate the Average quantity he/she s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to create Aggregate quer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he query using simple query wizard and choose only salesPersonName and quant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he query in the design vi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otal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ill find a new row add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total and the word GroupBy is written for both fie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Quantity, change the word GroupBy to be Sum so that the sum of Quantity is display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to check SQ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24F4-7665-41F3-ACC3-522C1DDCA76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group.bmp"/>
          <p:cNvPicPr/>
          <p:nvPr/>
        </p:nvPicPr>
        <p:blipFill>
          <a:blip r:embed="rId1"/>
          <a:stretch/>
        </p:blipFill>
        <p:spPr>
          <a:xfrm>
            <a:off x="5638680" y="3276720"/>
            <a:ext cx="281952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new query query_4, that displays all information in table products. Then, create a new field called RevenueAmount. This should be calculated by Quantity*SellingPricePerPie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he Query using the simple query wiz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SQL of query_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o the select statement the follow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24000" indent="-5144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…., Quantity*SellingPricePerPiece as RevenueAmoun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82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query_4, create a new field called Status. This should display "Profit"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lingPricePerPiece&gt;PurchasePricePerPiece, "Breakeven" if they were equal and "Loss" otherwi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, write the expression in English stat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lingPricePerPiece&gt;PurchasePricePerPie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=profi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SellingPricePerPiece=PurchasePricePerPie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=equa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=lo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to make If statemen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to the design view of the que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nthoer field 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:IIF(SellingPricePerPiece&gt;PurchasePricePerPiec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t”, IIF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lingPricePerPiece=PurchasePricePerPiec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”,”Loss)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2B7D-8186-4595-BE4F-40581B50A73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Next Week (T1 &amp; T2 only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on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 Quiz #2 on Datab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Wednes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1 Lab 2” of Problem Solv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s for TA Paul for Today sl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82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crosstab query from query_1. Let the rows show the SalesPersonName, the columns show the product name, and calculate the sum of Quantit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Creat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ry Wizar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tab qu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quer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ry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alesPersonName in ro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ProductName in colum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quantity as data and sum as function (on the righ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care which fields are required to be rows and which fields are required to be colum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care which function is required to be calculated; avg, sum, max, etc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5C3F-E302-432A-948F-2445715B33E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ploading Data from Exc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500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 to the "External Data" tab and then select from the Import section Exce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1290-46C4-4AB6-BD66-D214B04C019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Import_excel01.png"/>
          <p:cNvPicPr/>
          <p:nvPr/>
        </p:nvPicPr>
        <p:blipFill>
          <a:blip r:embed="rId1"/>
          <a:stretch/>
        </p:blipFill>
        <p:spPr>
          <a:xfrm>
            <a:off x="2057400" y="3276720"/>
            <a:ext cx="49528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Content Placeholder 6" descr="Import_excel02.png"/>
          <p:cNvPicPr/>
          <p:nvPr/>
        </p:nvPicPr>
        <p:blipFill>
          <a:blip r:embed="rId1"/>
          <a:stretch/>
        </p:blipFill>
        <p:spPr>
          <a:xfrm>
            <a:off x="304920" y="914400"/>
            <a:ext cx="8663040" cy="5410080"/>
          </a:xfrm>
          <a:prstGeom prst="rect">
            <a:avLst/>
          </a:prstGeom>
          <a:ln w="0">
            <a:noFill/>
          </a:ln>
        </p:spPr>
      </p:pic>
      <p:sp>
        <p:nvSpPr>
          <p:cNvPr id="2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A46D-D085-44E7-BE1D-8471E4C3389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new database named Stuff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table called Orders with the fields: OrderID, ProductID, SalespersonName, SalesDate, Quantity and SellingPricePerPie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primary key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 for ProductI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 for SalespersonNam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 for SalesDat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 Create a new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ab Create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lick on the table name to choose the design vi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writing variables Names and ty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unique variable to be primary k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a variable primary key: choose the variable, right click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mary ke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 variable is the one with yellow key to its lef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re required to enter values for ID, make its type number instead of auto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5C65-27B1-4072-80AC-560777983B1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table called Products with the fields ProductID, PName, PurchaseDate, Supplier and PurchasePricePerPie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relationships might be require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 create a relationship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ab Database T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relationsh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both 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a relationship between variable A and variable 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07920" indent="-5140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g variable A from the first table to variable B in the second t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07920" indent="-5140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x will appear to you with the relationship vari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07920" indent="-5140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that variables names are correct and then press o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3EDA-3C49-437C-818B-69EF94CFB19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ina</cp:lastModifiedBy>
  <dcterms:modified xsi:type="dcterms:W3CDTF">2009-03-06T10:42:23Z</dcterms:modified>
  <cp:revision>178</cp:revision>
  <dc:subject/>
  <dc:title>CPSC 203</dc:title>
</cp:coreProperties>
</file>